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0D48-DBA1-4B03-8F2D-27B6A4FA24E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A2DD-80B8-45B0-B1A3-B3E5376BDAF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174-13B1-482E-9DC4-D5B36718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73F-7F84-440F-8C22-0AB2668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0CD-2079-4D08-95B8-35B05DC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A1E-194B-4335-8574-DD3DF56D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252-E73B-4B2E-B021-C30A8FC8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D649-EC97-4AD5-A114-9B807083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D04-5AEE-47C4-B343-A4E901E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87D-B692-4D17-B36A-148EFB2B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54D-D336-46CB-9D54-6815DB43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4633-B812-4A7C-B08B-2C93830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962C-A287-4464-A1CE-E78FE7B7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606-1513-4F11-BEDB-81590C2D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7EA-A465-4D21-B006-C6823B3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6BC-04A4-4D8E-B0BA-2A09584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D8A9-49FF-4839-8C17-4474DB5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FB2-9F02-4291-8A54-72CDA554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8E3E-BF3C-4C6D-B23C-1D430BA6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54C-BE68-4B1B-9CED-05C4849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05C-6595-48BF-8B8A-6335BB0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174-D675-4B7F-9A3C-1428794C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D58-9E31-4B1D-94C0-116B0C49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916-3124-4F02-B2F9-823D8D4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011-AC63-46E3-B84C-9FB056E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716-DA8F-4A4B-8ED2-BA686FD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03D-9F92-44E3-8341-70B2DD29ABCE}" type="datetime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47EB-4537-429C-9809-05C00C40B286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714-9FBD-4648-ACDC-50193605E8CB}" type="datetime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237C-7154-4F53-9414-F2421481AE9C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arriorsofthe.net/" TargetMode="External"/><Relationship Id="rId2" Type="http://schemas.openxmlformats.org/officeDocument/2006/relationships/hyperlink" Target="http://www.warriorsofthe.net/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thensbar.gr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1619280" y="189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Vocational School of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500720" y="594216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oanna Tseling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Teacher of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ias Vergini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Teacher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341360"/>
            <a:ext cx="68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aching Computer Science through English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024360" cy="1995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681280" y="3357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o Pro Smbd"/>
              </a:rPr>
              <a:t>What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o Pro Smbd"/>
              </a:rPr>
              <a:t>the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3745080" cy="2587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384480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3745080" cy="258768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33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3673440" cy="2597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673440" cy="2595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211640" y="907920"/>
            <a:ext cx="3673440" cy="2575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673440" cy="2592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211640" y="3860640"/>
            <a:ext cx="3673440" cy="259272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49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673440" cy="2595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3630600" cy="2565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4325760" y="3789360"/>
            <a:ext cx="35593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64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250920" y="62064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cabulary matching exerci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Engli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 are asked to match the words they have been exposed to in the previous stage to their defini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3760" y="182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745080" cy="5300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788000" y="1584360"/>
            <a:ext cx="3744720" cy="522936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78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24000" y="2309760"/>
            <a:ext cx="84960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st Video view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English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s watch an English vide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lled: “The Warriors of the N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ore information about the video is available at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Comic Sans MS"/>
                <a:hlinkClick r:id="rId1"/>
              </a:rPr>
              <a:t>www.warriorsofthe.net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Comic Sans MS"/>
                <a:hlinkClick r:id="rId2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s fill in a diagram with the appropriate words giv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agram concerns a request for a specific web-site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s are asked to do a gap-filling exercise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. 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y have to put the verbs given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Present Simple Passive Voice in order to describe the process mentioned in the vid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90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132000" y="620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68360" y="614520"/>
            <a:ext cx="2087640" cy="1733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5796000" y="90792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3156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897360" cy="46404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06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324000" y="2016360"/>
            <a:ext cx="849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ideo viewing: (with English subtitles created by teac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s read some statements and guess whether they are True or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they watch the video for the second time The video is paused at specific points so that Ss verify their answers to the questions of the corresponding video se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18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50920" y="1545480"/>
            <a:ext cx="85932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t-Viewing activity: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s get into groups in order to solve the following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ohn is in the school computer lab and wants to find the address of a local bar. He types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Comic Sans MS"/>
                <a:ea typeface="Times New Roman"/>
                <a:hlinkClick r:id="rId1"/>
              </a:rPr>
              <a:t>www.athensbar.g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a Web browser. He clicks on the requested link and receives the following message: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cess to the requested site is forbidde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happened? Describe and design the journey of the IP packets from the moment John made his request. How far have these packets trave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blocked their access to the requested sit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30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250920" y="218664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t-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s take a post-test so that T can assess their progre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Actually, they retake the pre-test in order to measure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ition of new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42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2050920" y="260280"/>
            <a:ext cx="446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84360" y="105264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ea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726840" y="1622520"/>
            <a:ext cx="12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ve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59520" y="2708280"/>
            <a:ext cx="75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r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4 teaching hours (Only Stages 1-5 were complet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395280" y="30751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16000" y="3933720"/>
            <a:ext cx="7524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husi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 involvement / participation  in meaningful  inter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ant attempt to relate their personal experiences with the introduced concept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7000" y="350028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ents’ reaction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14960" y="2198520"/>
            <a:ext cx="23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mber of 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8"/>
          <p:cNvSpPr/>
          <p:nvPr/>
        </p:nvSpPr>
        <p:spPr>
          <a:xfrm>
            <a:off x="545040" y="4869000"/>
            <a:ext cx="49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 Lev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2-B1  (Mixed Ability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1280" y="559584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ent Lev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dequately skilled in using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exchanging Information through the Intern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640" y="3573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ming at enhancing the teaching and the learning process concerning the basic characteristics of the Interne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4000" y="15573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on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039920" y="1052640"/>
            <a:ext cx="41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hentic Audiovisua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163040" y="19162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ar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27280" y="126792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1773360"/>
            <a:ext cx="15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421000"/>
            <a:ext cx="576000" cy="647640"/>
          </a:xfrm>
          <a:prstGeom prst="downArrow">
            <a:avLst>
              <a:gd name="adj1" fmla="val 50000"/>
              <a:gd name="adj2" fmla="val 281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2462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Computer Science through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395280" y="62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611280" y="1700280"/>
            <a:ext cx="752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consuming preparation of educationa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apting authentic material  to Ss’ 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 skepticism about the new form of classroom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estimating  the  duration of 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ctical problems like school  timetabl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ailability of computer l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11040" y="11253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’ challeng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050920" y="260280"/>
            <a:ext cx="446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2"/>
          <p:cNvSpPr/>
          <p:nvPr/>
        </p:nvSpPr>
        <p:spPr>
          <a:xfrm>
            <a:off x="133200" y="206064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annot teach a language, only crea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ditions under which it might be  lear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n Humboldt  18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nly way to do great work is to love what you d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638360" y="2924280"/>
            <a:ext cx="588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 for your Attention..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68360" y="1843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omprehension of the Data Exchange process through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37560" y="3068640"/>
            <a:ext cx="6935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Internet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happens when you click on a link of a webp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information travel to its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403280" y="2462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368360" cy="603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235600" y="18900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rning 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50920" y="13406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y the end of this lesson Ss will be able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8360" y="1977840"/>
            <a:ext cx="8280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gniz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different devices and protocols that are used  in the data exchange process through the Internet in Greek and in Engl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plai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w the reliability of the data exchange through the Internet is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characteristics of a Local Area Network (LAN) and the World Wide Web (ww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ntif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main functions of specific devices (e.g. Router, Proxy Server) and programs (e.g. Firewall, Web-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data exchange  process through the Internet by using Passive Voice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95280" y="260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use English to teach new concepts in Computer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2276640"/>
            <a:ext cx="89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eak the traditional teaching rout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- get off the beate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tiv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s to use English in order to acquire knowledge in Computer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cou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s to participate actively in the teaching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principles of cross- curricular teaching  / CL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541880" y="191628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tent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080360" y="284652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041440" y="2846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3313080" y="2990880"/>
            <a:ext cx="129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11280" y="37422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I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fers to situations where subjects or parts of subjects are taught through a foreign language with dual-focused aims, namely the learning of content, and the simultaneous learning for a foreign langua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017120" y="501336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sh, D.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95280" y="260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use English to teach new concepts in Computer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539640" y="179928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rm-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Greek). Ss are encouraged to think about and discuss the way information and data are requested and acquired through the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468360" y="357336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2: Pre-t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(in Greek). Ss take a pre-test  so that T  checks their previous knowledge concerning the exchange of data through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3080" y="135000"/>
            <a:ext cx="158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ges 1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192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108000" y="1557360"/>
            <a:ext cx="903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tal service /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storming – Comparison of the two processes (in Greek/Engli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owerpoint presentation shown to Ss in Greek to highlight the similarities of the  two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04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11640" y="693720"/>
            <a:ext cx="3745080" cy="2709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816360" cy="27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211640" y="3575160"/>
            <a:ext cx="3745080" cy="26733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18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79280" y="692280"/>
            <a:ext cx="3816360" cy="2697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6:23Z</dcterms:created>
  <dc:creator>3rd EPAL</dc:creator>
  <dc:description/>
  <dc:language>en-US</dc:language>
  <cp:lastModifiedBy>Ilias_Desktop</cp:lastModifiedBy>
  <dcterms:modified xsi:type="dcterms:W3CDTF">2012-07-12T20:56:52Z</dcterms:modified>
  <cp:revision>46</cp:revision>
  <dc:subject/>
  <dc:title>Διαφάνεια 1</dc:title>
</cp:coreProperties>
</file>